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A173-E245-496E-B3A2-CB45CCF6E0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peaking / reading lesson. It could take 1 – 2 hours: discuss: 10+ mins; vocabulary: 10+ mins; prediction: 10+ mins; reading: 10+ mins; poster: 20+ mins</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E20C-8AFB-40B8-823F-430BBD428E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 or groups.</a:t>
            </a: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1EF2-B5E0-4E1F-B6CA-572CDF7E9D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b   2/c  3/a</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5D70-1203-482F-8F1B-9975208E1E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d Senegal on a map. Let learners discuss what they think before reading to predict the conten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FD85-2D40-42DC-B9CF-8A0BA665BD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less</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85FA-D88B-47F7-9625-4300F85423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2) no</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2F37-F42D-4E75-9231-A87D582EDE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3) no</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FDE9-41A7-4D66-BA2A-110B09B873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F70C4-9EDF-443F-910A-66CD68C3C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8CED0-82D7-482C-9431-A78E91166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15075-D008-4DC6-A65F-05D77C0E0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B6383-1B30-4298-9AD3-AF10B4253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3BD9-2AC5-4E8D-8005-4F35A35E1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53A9D-38F7-4F5D-9314-097892CDE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9FAA1-750F-4216-9AD9-ABFA9299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7CD5A-A063-4E4F-8152-3BF5B2264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907AF-D840-466B-A7A2-5012D8E7F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831B7-39AB-41C9-A804-C9742594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25D76-422C-48D4-B432-230C502D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BDFF2-D7A3-4FF9-B909-97A9A2F7D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8E03-D53E-4EDA-81B9-5F49D750AE6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276640"/>
            <a:ext cx="8280360" cy="23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Smoking and power</a:t>
            </a:r>
            <a:endParaRPr b="0" lang="en-US" sz="7200" spc="-1" strike="noStrike">
              <a:solidFill>
                <a:srgbClr val="000000"/>
              </a:solidFill>
              <a:latin typeface="Calibri"/>
            </a:endParaRPr>
          </a:p>
        </p:txBody>
      </p:sp>
      <p:sp>
        <p:nvSpPr>
          <p:cNvPr id="49" name="PlaceHolder 2"/>
          <p:cNvSpPr>
            <a:spLocks noGrp="1"/>
          </p:cNvSpPr>
          <p:nvPr>
            <p:ph type="subTitle"/>
          </p:nvPr>
        </p:nvSpPr>
        <p:spPr>
          <a:xfrm>
            <a:off x="684360" y="4869000"/>
            <a:ext cx="7920000" cy="122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35000" y="189000"/>
            <a:ext cx="2852640" cy="1822320"/>
          </a:xfrm>
          <a:prstGeom prst="rect">
            <a:avLst/>
          </a:prstGeom>
          <a:ln w="0">
            <a:noFill/>
          </a:ln>
        </p:spPr>
      </p:pic>
      <p:pic>
        <p:nvPicPr>
          <p:cNvPr id="51" name="Picture 3" descr=""/>
          <p:cNvPicPr/>
          <p:nvPr/>
        </p:nvPicPr>
        <p:blipFill>
          <a:blip r:embed="rId2"/>
          <a:stretch/>
        </p:blipFill>
        <p:spPr>
          <a:xfrm>
            <a:off x="3247920" y="33336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Discuss:</a:t>
            </a:r>
            <a:endParaRPr b="0" lang="en-US" sz="7200" spc="-1" strike="noStrike">
              <a:solidFill>
                <a:srgbClr val="000000"/>
              </a:solidFill>
              <a:latin typeface="Calibri"/>
            </a:endParaRPr>
          </a:p>
        </p:txBody>
      </p:sp>
      <p:sp>
        <p:nvSpPr>
          <p:cNvPr id="53" name=""/>
          <p:cNvSpPr txBox="1"/>
          <p:nvPr/>
        </p:nvSpPr>
        <p:spPr>
          <a:xfrm>
            <a:off x="457200" y="1938240"/>
            <a:ext cx="8229600" cy="4586400"/>
          </a:xfrm>
          <a:prstGeom prst="rect">
            <a:avLst/>
          </a:prstGeom>
          <a:noFill/>
          <a:ln w="0">
            <a:noFill/>
          </a:ln>
        </p:spPr>
        <p:txBody>
          <a:bodyPr anchor="t">
            <a:normAutofit/>
          </a:bodyPr>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smoking good or bad?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Why do people smoke?</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Are more people smoking now, or less?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cigarette advertising legal in your countr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5997600" y="115920"/>
            <a:ext cx="2852640" cy="182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Match the vocabulary:</a:t>
            </a:r>
            <a:endParaRPr b="0" lang="en-US" sz="4400" spc="-1" strike="noStrike">
              <a:solidFill>
                <a:srgbClr val="000000"/>
              </a:solidFill>
              <a:latin typeface="Calibri"/>
            </a:endParaRPr>
          </a:p>
        </p:txBody>
      </p:sp>
      <p:sp>
        <p:nvSpPr>
          <p:cNvPr id="56" name=""/>
          <p:cNvSpPr txBox="1"/>
          <p:nvPr/>
        </p:nvSpPr>
        <p:spPr>
          <a:xfrm>
            <a:off x="468360" y="1557360"/>
            <a:ext cx="4038480" cy="452592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1/ tobacco compa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2/ campaigne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3/ strict law</a:t>
            </a:r>
            <a:endParaRPr b="0" lang="en-US" sz="4400" spc="-1" strike="noStrike">
              <a:solidFill>
                <a:srgbClr val="000000"/>
              </a:solidFill>
              <a:latin typeface="Calibri"/>
            </a:endParaRPr>
          </a:p>
        </p:txBody>
      </p:sp>
      <p:sp>
        <p:nvSpPr>
          <p:cNvPr id="57" name=""/>
          <p:cNvSpPr txBox="1"/>
          <p:nvPr/>
        </p:nvSpPr>
        <p:spPr>
          <a:xfrm>
            <a:off x="4355640" y="1599840"/>
            <a:ext cx="4537080" cy="492444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a) a rule that you must not break</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b) a business that makes cigarett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c) someone who fights to change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is Senegal?</a:t>
            </a:r>
            <a:endParaRPr b="0" lang="en-US" sz="4400" spc="-1" strike="noStrike">
              <a:solidFill>
                <a:srgbClr val="000000"/>
              </a:solidFill>
              <a:latin typeface="Calibri"/>
            </a:endParaRPr>
          </a:p>
        </p:txBody>
      </p:sp>
      <p:sp>
        <p:nvSpPr>
          <p:cNvPr id="59" name=""/>
          <p:cNvSpPr txBox="1"/>
          <p:nvPr/>
        </p:nvSpPr>
        <p:spPr>
          <a:xfrm>
            <a:off x="457200" y="1267920"/>
            <a:ext cx="829152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fore you read, what do you think?:</a:t>
            </a:r>
            <a:endParaRPr b="0" lang="en-US" sz="32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a lot of people smoke in Senegal?</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es the government in Senegal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the cigarette companies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1) Will the new laws in Senegal make people smoke more or less?</a:t>
            </a:r>
            <a:endParaRPr b="0" lang="en-US" sz="4400" spc="-1" strike="noStrike">
              <a:solidFill>
                <a:srgbClr val="000000"/>
              </a:solidFill>
              <a:latin typeface="Calibri"/>
            </a:endParaRPr>
          </a:p>
        </p:txBody>
      </p:sp>
      <p:sp>
        <p:nvSpPr>
          <p:cNvPr id="61" name=""/>
          <p:cNvSpPr txBox="1"/>
          <p:nvPr/>
        </p:nvSpPr>
        <p:spPr>
          <a:xfrm>
            <a:off x="178920" y="1557000"/>
            <a:ext cx="8713800" cy="51116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ealth campaigners in Senegal are very happy about the new laws against smoking. Senegal is the sixth African country to make smoking illegal in almost all public places. Also all cigarette advertising is now illegal. And there are very serious health warnings on 70 per cent of cigarette packe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the company that makes Marlboro and L&amp;M cigarettes. They have a factory in Senegal. And they tried to fight against the new la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This is an example of people fighting against the power of the tobacco industry,’ says Tih Ntiabang (Africa Co-ordinator of the civil-society Framework Convention Alliance).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2) Do the tobacco companies like all the new smoking laws?</a:t>
            </a:r>
            <a:endParaRPr b="0" lang="en-US" sz="4400" spc="-1" strike="noStrike">
              <a:solidFill>
                <a:srgbClr val="000000"/>
              </a:solidFill>
              <a:latin typeface="Calibri"/>
            </a:endParaRPr>
          </a:p>
        </p:txBody>
      </p:sp>
      <p:sp>
        <p:nvSpPr>
          <p:cNvPr id="63" name=""/>
          <p:cNvSpPr txBox="1"/>
          <p:nvPr/>
        </p:nvSpPr>
        <p:spPr>
          <a:xfrm>
            <a:off x="179280" y="1600200"/>
            <a:ext cx="8856720" cy="5068800"/>
          </a:xfrm>
          <a:prstGeom prst="rect">
            <a:avLst/>
          </a:prstGeom>
          <a:noFill/>
          <a:ln w="0">
            <a:noFill/>
          </a:ln>
        </p:spPr>
        <p:txBody>
          <a:bodyPr anchor="t">
            <a:normAutofit fontScale="96000"/>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ti-smoking laws are getting stricter in the West, so the tobacco companies are trying very hard to sell more cigarettes in Africa, where the advertising laws are fre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tiabang says that Big Tobacco (the big tobacco companies) fights against many laws in Africa. And when they do not manage to persuade the government, they start fighting in the law cour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fighting legal battles against Australia and Uruguay because of trade agreements. Also, in South Africa, British American Tobacco is fighting to make cigarette advertising legal again: they say they need to advertise cigarettes for ‘freedom of expression’.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3) Is it easy for Senegal to fight against tobacco companies?</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enegal, the next big step is to increase the price of its cigarettes. They now cost 80 US cents a packet, which could be the cheapest in the world. But there could be legal problems with this. Senegal is a member of UEMOA (an organisation that controls French-speaking West Africa’s currency), so it cannot increase tax on cigarettes. If it wants to raise prices it must either choose to follow the more relaxed rules of the economic group ECOWAS or try to change the rules of UEMOA.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will be many effects of this in Africa. So the big tobacco companies will probably have their lawyers ready.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2339640" y="1600200"/>
            <a:ext cx="55450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smoke becau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buy cigarettes because …..</a:t>
            </a:r>
            <a:endParaRPr b="0" lang="en-US" sz="3200" spc="-1" strike="noStrike">
              <a:solidFill>
                <a:srgbClr val="000000"/>
              </a:solidFill>
              <a:latin typeface="Calibri"/>
            </a:endParaRPr>
          </a:p>
        </p:txBody>
      </p:sp>
      <p:pic>
        <p:nvPicPr>
          <p:cNvPr id="68" name="Picture 3" descr=""/>
          <p:cNvPicPr/>
          <p:nvPr/>
        </p:nvPicPr>
        <p:blipFill>
          <a:blip r:embed="rId1"/>
          <a:stretch/>
        </p:blipFill>
        <p:spPr>
          <a:xfrm>
            <a:off x="2987640" y="3933720"/>
            <a:ext cx="347976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20:10:20Z</dcterms:created>
  <dc:creator>Linda Ruas</dc:creator>
  <dc:description/>
  <dc:language>en-US</dc:language>
  <cp:lastModifiedBy>Linda Ruas</cp:lastModifiedBy>
  <dcterms:modified xsi:type="dcterms:W3CDTF">2014-07-07T19:54:05Z</dcterms:modified>
  <cp:revision>12</cp:revision>
  <dc:subject/>
  <dc:title>Smoking and power</dc:title>
</cp:coreProperties>
</file>